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1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12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2436F-45F4-4B35-B2D2-FF7299B6C4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DF29C-FDB3-43A9-BFD7-E93BB5F076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55375-127F-4E52-B13B-6917E9E306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3CFB9-BFAB-440B-9B02-BF835D9B9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B396E-B853-41CE-8CC2-C43F362E6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FE1A8-96C2-4FFF-A919-425BE06051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37304-61B0-48DE-8105-50EC45C557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F9D0-978F-4D23-AE00-E0B2AA3DAF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5976C-F7C7-4963-97BF-51501ABE58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83D90-E25A-437F-8554-B8EF64EDD9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DD134-A3B5-4A25-BE91-66F1607FEE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6AC2-FC15-4B71-B043-B5027D55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3357-F7FE-4F6D-82D5-5C42C466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14B0-B791-4433-879A-B0D5D7AF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7228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984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472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7228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984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4196-07D1-4812-84F2-D33F4BC0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C80B-C6BF-4491-A56F-59E245D6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20EA-B848-4E75-9C03-9458A3A0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8735-D6FF-41C5-A136-2EB39663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C983-DA64-4512-87F0-8420A5BE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DFF1-73B0-45AF-8BFD-2226B1C6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4720" y="503280"/>
            <a:ext cx="907272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46F3-B4B0-4FB0-83D7-F3FD116B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771D-F5BC-4530-A6BA-80F55EC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B561-4881-4B58-A454-1E650509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A085-0924-47DA-AE3E-BDE7A616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B65D-5E61-4BE2-8861-878D3FD9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2DC1-EC08-4A8B-9468-50655FDC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1454-4350-46A3-9D0A-7423231E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7228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3984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72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7228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3984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836E-F59B-42E1-9F92-D04521A9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06F6-C32E-4852-924E-CD954CAF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66BBC-32D0-478B-976A-4C314637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EF974-A3B1-4824-97C1-AF5BB14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452A-390E-4093-9FA0-E2AF17C8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3F18-4FAA-4402-B1C9-E6DEC9D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DBDC-319F-45E1-9314-A9ECC798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04720" y="503280"/>
            <a:ext cx="907272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F346-0C37-48DF-86E3-4E8CD539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B406-4F23-4256-A77D-8394EDD8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5AD6-EB5B-474C-8188-A1D37CDE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099D-DBBF-438A-8D02-11F83B9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B2D2-FE10-4311-B7DD-71C1BA2D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CB0B-9A25-4D23-9C19-647D0B1E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7228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63984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0472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7228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63984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4CFC-BC6F-46F8-BB32-6E9D67FB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9826-0933-493A-84B6-211C4C23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3ED1-EDDD-4AB3-BA21-8C91E51F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04720" y="503280"/>
            <a:ext cx="907272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EE75-BFE5-4AD6-9D30-3AB71D27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B524-25E4-49A7-AF02-DAE277D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BE3E-3DBC-41B3-8EBB-B91B03BA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F56C-99B5-4F08-B88D-BEDCBF76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A83FF5D-44E2-4ACD-9A3C-E56BF968627F}" type="slidenum">
              <a:rPr b="0" lang="en-U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80360" cy="601200"/>
            <a:chOff x="0" y="0"/>
            <a:chExt cx="10080360" cy="6012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15000" cy="5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5040" y="148680"/>
              <a:ext cx="9625320" cy="30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1440" y="148680"/>
              <a:ext cx="151920" cy="155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3360" y="0"/>
              <a:ext cx="153720" cy="151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03360" y="148680"/>
              <a:ext cx="153720" cy="15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302760" y="302400"/>
              <a:ext cx="150120" cy="151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5080" y="150120"/>
              <a:ext cx="155520" cy="1519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51440" y="298800"/>
              <a:ext cx="151920" cy="151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02760" y="451080"/>
              <a:ext cx="150120" cy="150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988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40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75440" indent="-23940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54600" indent="-23940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6CCFC39-806D-4C1B-813E-0827DDB6AAC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10080360" cy="7559280"/>
            <a:chOff x="0" y="0"/>
            <a:chExt cx="10080360" cy="755928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864240" cy="75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891800" y="1863360"/>
              <a:ext cx="8188560" cy="279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175760"/>
              <a:ext cx="3160080" cy="3480120"/>
              <a:chOff x="0" y="1175760"/>
              <a:chExt cx="3160080" cy="348012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631440" y="3949200"/>
                <a:ext cx="635040" cy="706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891440" y="1863360"/>
                <a:ext cx="633240" cy="708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514600" y="1175760"/>
                <a:ext cx="645480" cy="699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258200" y="3949200"/>
                <a:ext cx="643320" cy="7066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514600" y="1863360"/>
                <a:ext cx="645480" cy="708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258200" y="2561760"/>
                <a:ext cx="643320" cy="697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561760"/>
                <a:ext cx="641880" cy="6976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891440" y="2561760"/>
                <a:ext cx="633240" cy="697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631440" y="3249360"/>
                <a:ext cx="635040" cy="7102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258200" y="3249360"/>
                <a:ext cx="643320" cy="7102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988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40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75440" indent="-23940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54600" indent="-23940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C17704D-4BA3-4465-9855-C958B86BC1CA}" type="slidenum">
              <a:rPr b="0" lang="en-U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0440" y="2617920"/>
            <a:ext cx="90662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90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04720" y="228600"/>
            <a:ext cx="9072720" cy="16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What is the volume of the box?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685800" y="1371600"/>
            <a:ext cx="5257800" cy="34290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685800" y="5029200"/>
            <a:ext cx="4343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5257800" y="4114440"/>
            <a:ext cx="685800" cy="6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6172200" y="1369800"/>
            <a:ext cx="1440" cy="25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828800" y="4313160"/>
            <a:ext cx="16002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257800" y="4313160"/>
            <a:ext cx="16002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6400800" y="2484360"/>
            <a:ext cx="25146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57200" y="5715000"/>
            <a:ext cx="91440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5 cm X 2 cm X 3 cm = 30 cm</a:t>
            </a:r>
            <a:r>
              <a:rPr b="0" lang="en-GB" sz="44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1"/>
          <p:cNvSpPr/>
          <p:nvPr/>
        </p:nvSpPr>
        <p:spPr>
          <a:xfrm flipV="1">
            <a:off x="685800" y="226800"/>
            <a:ext cx="3429000" cy="617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"/>
          <p:cNvSpPr/>
          <p:nvPr/>
        </p:nvSpPr>
        <p:spPr>
          <a:xfrm>
            <a:off x="4114800" y="228600"/>
            <a:ext cx="342756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685800" y="6400800"/>
            <a:ext cx="6856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2057400" y="38862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4114800" y="3886200"/>
            <a:ext cx="144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971800" y="3086280"/>
            <a:ext cx="1143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572000" y="3117960"/>
            <a:ext cx="1144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657600" y="4718160"/>
            <a:ext cx="9144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286000" y="4800600"/>
            <a:ext cx="182880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657600" y="1828800"/>
            <a:ext cx="20588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5029200" y="4800600"/>
            <a:ext cx="251316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716440" y="385920"/>
            <a:ext cx="457056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 = m / v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 = D x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 = m / 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04720" y="228600"/>
            <a:ext cx="9072720" cy="61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 = 2 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 = 1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 = 2 g/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Ex:  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 = 6 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 = 3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 = 2 g/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5716440" y="885960"/>
            <a:ext cx="36561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 = m /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716440" y="3430440"/>
            <a:ext cx="4113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 =  m / 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320" y="228240"/>
            <a:ext cx="9072360" cy="70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Ex:  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 =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 = 1cm X 2cm X 4cm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 =  2 g/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 = 16 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 =  8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 =  2 g/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"/>
          <p:cNvSpPr/>
          <p:nvPr/>
        </p:nvSpPr>
        <p:spPr>
          <a:xfrm>
            <a:off x="1143000" y="2743200"/>
            <a:ext cx="845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486400" y="3629160"/>
            <a:ext cx="41148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 = D x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9072720" cy="65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000000"/>
                </a:solidFill>
                <a:latin typeface="Arial"/>
              </a:rPr>
              <a:t>Density-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 the measure of how much mass is contained in a given unit of volum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Abbrev.     Ending Uni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ass           m           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olume        V           cm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16080" y="347508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2830680" y="294156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5497560" y="294156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16080" y="34750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16080" y="629460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9307440" y="294156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16080" y="454176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16080" y="545616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8"/>
          <p:cNvSpPr/>
          <p:nvPr/>
        </p:nvSpPr>
        <p:spPr>
          <a:xfrm>
            <a:off x="239760" y="274680"/>
            <a:ext cx="95248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y Column-Think about i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he following in order of density (from the heaviest to the lightest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, Dawn Dish Soap, Vegetable Oil, Rubbing Alcohol, Karo Syrup, Honey and Lamp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92040" y="46080"/>
          <a:ext cx="9072720" cy="7162920"/>
        </p:xfrm>
        <a:graphic>
          <a:graphicData uri="http://schemas.openxmlformats.org/drawingml/2006/table">
            <a:tbl>
              <a:tblPr/>
              <a:tblGrid>
                <a:gridCol w="5923080"/>
                <a:gridCol w="314964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ing Alcoho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7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 Oi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8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ble Oi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9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wn Dish Soap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Corn Syrup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ey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4125960" y="579600"/>
            <a:ext cx="56386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y Colu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order of density for the follow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, Dawn Dish Soap, Vegetable Oil, Rubbing Alcohol, Karo Syrup, Honey and Lamp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Seven Layer Density Column"/>
          <p:cNvPicPr/>
          <p:nvPr/>
        </p:nvPicPr>
        <p:blipFill>
          <a:blip r:embed="rId1"/>
          <a:stretch/>
        </p:blipFill>
        <p:spPr>
          <a:xfrm>
            <a:off x="0" y="0"/>
            <a:ext cx="36212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04720" y="456840"/>
            <a:ext cx="9072720" cy="73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To find density of an object, you need the mass and volume of the object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1.  Mass- remember to use the balanc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2.  Volume- there are 2 ways to find the volume of object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17600" y="228600"/>
            <a:ext cx="9185040" cy="66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1295280" indent="-215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 To find the volume of a circular object use a graduated cylin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easure some water in a graduated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rop the object and reread the graduated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tract the two numbers....you should always have a positive numb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9072720" cy="16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"/>
          <p:cNvGrpSpPr/>
          <p:nvPr/>
        </p:nvGrpSpPr>
        <p:grpSpPr>
          <a:xfrm>
            <a:off x="-7772400" y="0"/>
            <a:ext cx="12775680" cy="5660280"/>
            <a:chOff x="-7772400" y="0"/>
            <a:chExt cx="12775680" cy="5660280"/>
          </a:xfrm>
        </p:grpSpPr>
        <p:sp>
          <p:nvSpPr>
            <p:cNvPr id="172" name="Text Box 3"/>
            <p:cNvSpPr/>
            <p:nvPr/>
          </p:nvSpPr>
          <p:spPr>
            <a:xfrm rot="16200000">
              <a:off x="2329920" y="2986920"/>
              <a:ext cx="475452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-7772400" y="595080"/>
              <a:ext cx="7020360" cy="10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" y="0"/>
              <a:ext cx="3938040" cy="55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6"/>
            <p:cNvSpPr/>
            <p:nvPr/>
          </p:nvSpPr>
          <p:spPr>
            <a:xfrm>
              <a:off x="-7589880" y="1924920"/>
              <a:ext cx="5547240" cy="20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7"/>
          <p:cNvSpPr/>
          <p:nvPr/>
        </p:nvSpPr>
        <p:spPr>
          <a:xfrm>
            <a:off x="457200" y="5715000"/>
            <a:ext cx="91440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00 mL   260 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ter with C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228600" y="343044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2057400" y="29718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886200" y="228600"/>
            <a:ext cx="6194520" cy="57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e the volume of the co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821040" y="2408400"/>
            <a:ext cx="62596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60 mL – 200 mL = 60 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821040" y="3551400"/>
            <a:ext cx="59421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60 mL = 60 cm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934704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19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b.  To find the volume of a rectangular object use a ruler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lume = Length X Width X Height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GB" sz="44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   x  cm   x 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576360" y="3316320"/>
            <a:ext cx="4230720" cy="26146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1143000" y="3200400"/>
            <a:ext cx="3657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343400" y="5256000"/>
            <a:ext cx="685800" cy="68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5029200" y="3198960"/>
            <a:ext cx="1440" cy="18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572000" y="4114800"/>
            <a:ext cx="2057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429000" y="5057640"/>
            <a:ext cx="1371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057400" y="3200400"/>
            <a:ext cx="1371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685800" y="6172200"/>
            <a:ext cx="8915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2 cm X 1 cm x 2 cm = 4 cm</a:t>
            </a:r>
            <a:r>
              <a:rPr b="1" lang="en-GB" sz="40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eronica Occelli</cp:lastModifiedBy>
  <dcterms:modified xsi:type="dcterms:W3CDTF">2011-11-18T02:38:21Z</dcterms:modified>
  <cp:revision>16</cp:revision>
  <dc:subject/>
  <dc:title>Density</dc:title>
</cp:coreProperties>
</file>